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6121-D8B8-4E04-8CC5-04698724F9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CC1A-7DB4-415C-987D-8FA6EF3F13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FD6A-96A0-49F4-B163-A1B066D0C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7C34-0340-4AD1-ADD7-8520FA4F2DF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93139-4CBD-4695-9844-792C4C10F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F851-01EF-4EB9-B583-63CBB19EC24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810BB-56CD-4EDA-B504-E0F5369EF72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71C42-C284-4886-BBA1-1BFA3048ACC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3F5B8-A7D0-4388-8A73-1290D483B4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9D994-8843-453D-8702-136B511234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3E6AE-6028-4DDC-BF1B-4189CD2500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21DBB-12F5-44AB-82E6-DF63B61AA05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93BD1-F591-4019-BD99-F41384E8438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3DFD4-853F-4B38-8532-83913E7B885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5E4AD-E6E7-45E2-8AEE-5A85C3AC5C8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65DF1-B83A-49CC-9EC3-54C76B14F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AFC9-A165-4D1C-928E-CFC9C504B2E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FF8C5-6FEB-45FB-A740-73B0D1AEAFA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CA7C-3EE7-45E3-9275-6A74A550C36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A8DA-A02B-44AC-B795-3D6AA07C3E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E7A9-667C-4C21-8F59-3CE5305BBFC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05AF-D0A1-45FC-A0C5-3E910BAB8E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1198-1687-4E00-B7F6-4A3C69F8B12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1262-67E3-4C16-A0E9-BD5A480C636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3624-E55F-405E-B775-1DFB138BCF6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A4BA-2806-4096-B77B-5D7B08B7569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F16ED-3ED5-4F57-B05E-348837373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9BD2-2581-4502-BF5A-E8A03EE845D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C816-6BCC-4647-8BAF-1C25DA4CF68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E18F-E717-4349-A913-DAA36D5FE6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08A2-F869-4226-AF67-3EF6C12379E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6505A-F5BC-40B2-9390-5BC9500B1CE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E62F5-9C86-46E0-B7DB-0372F55F44B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381C3-AC5E-4BAA-882E-140CD23E74B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62EC1F-E0C9-4C00-A286-3EFE72B1B9B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47C83-3AF9-461D-BBA8-98798AFF8C2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BCD3A-CAAF-4605-90E3-751FD97352A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70D3A-4760-4B8B-9921-B5F904107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DFA7-27D2-446B-9059-45C27B43AAF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49A31-66D7-48AB-A8BD-A3309298AC1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0C59B5-D808-4872-8B78-46DB6084202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9A27BA-EE36-48D2-A268-7A0A5ED26B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D783C-5403-4445-95FF-B14FA769CFC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CEB17-CA52-4123-9168-14C92164919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30604-1EFA-4566-818A-F1D42BC3BB9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4158D-59FF-473E-8101-E99C4732B76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F2839-2610-4A09-9786-DF9450E5523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AD334-C2B3-49A7-894E-996D994ADE0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F4E3FC-862A-4CD0-ADE2-905A14CDE0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8EE3-9742-48E1-A98B-9F3A872EB80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6B5A7-097B-4C01-9FEF-9BDECC15E09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DED8E-8D04-4E98-8E29-802AC4D2E37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595A8-03BA-4559-B643-3C4B5598AF8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EDBBF-3407-4482-8E23-6E8AA8A58BE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6BD76-E1DD-4FEC-817B-9A83FCD033E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51838-14C6-4556-BA6D-595E94245E1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F130B-0D38-4E1D-96B1-954E4C3520E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B1E9-DC2B-46EE-B473-8B3EAED1C06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6AD7-064C-496E-8BC5-8EAEDF2C85C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7094-0BE3-4B47-9896-261AF7C15A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A73B-E449-42E9-B769-D4F5DFD357B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DCE9-BA92-47B9-BE33-14A081F90DD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208C6-721E-42EA-8FB6-13D34FA7BDB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C87F-30C7-4B62-A07A-A906F461D5D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2F58-03F9-42EB-8833-972DC2F01BD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83A6-F127-4B89-A1D7-A5112E9D1C3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DA21-A2D9-4D4C-ACA6-3FB82E8A7B7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B085-E988-4774-9995-2DEF6F2F062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8231-0E7C-4401-B794-140A442E06F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C38A6-ECD5-4EEC-9575-D64018380C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2707-7FCB-462E-8E82-96BB1F982F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2FE6-CD57-47E4-B942-FB53DD23CE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B45A-2284-472B-81A7-55068624D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A51D-1900-4624-9E86-F9D72DF42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0938-8B21-4C68-BF00-5F2A98A346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2542-1605-450B-88C9-A5E2FB0360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712F-28B2-4E15-8A22-B4D1837C93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B256-83D1-4311-9687-DD396A8D46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FFFE-68CB-451A-8272-7CF8BBA187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AFE5-5BC4-40B0-B2A6-195DCDC11D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E36-D7C3-46BC-BB67-A8737F5DC8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4C9-E81A-42FA-B0B5-7EA7B8360B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6FF-57C3-477F-BE57-096234DAE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E296-6226-4273-B067-82F59739BD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FED-682E-4EDF-8ABF-D50FB5BF0F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B5F-F481-42EB-A6DF-F23C749197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B62-A6B7-4C7B-8B5C-94A30494FA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9D8-A34C-4F0E-B2B4-16744C1E64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BEC-BB4B-4E1F-B9C2-C2AD916155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082-5947-412A-9952-825AD0051F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8F2-21C5-4E31-971D-FCA654EE7B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F44A-A6E9-46EA-9C0F-9CD8707224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53F-7A20-467A-9F36-48C55F478B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4FA2A-B7A8-4FB6-B9A7-60BF94081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99A6-9234-44F5-AA14-8E4A111351C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147F7-CF2D-4C08-8D40-B23A15BEBC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34E42-1E4C-43C0-90C6-3D434FFE8B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66566-3F97-45FC-BB43-FEDDE9BBCD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A32E9-8FEF-45DD-81D5-A8A8E89DA1B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ED36C-B2CA-4953-93F6-0DFDB9F12F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495B4-637A-424B-BD36-656540DC1E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6A7D6-04B0-4751-960E-93F865E1E3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F8F99-D7AD-4343-AF54-AFAEDBD40F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1E13F-BBE3-40B0-A71B-017CAA8CD1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29DF2-B45A-41FD-B559-6925597FB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A874-F01A-468B-B98A-0452070298F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793AB-94BC-4379-B949-23D5D8C22C7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AA93-9D5F-4DC8-AD95-606801218A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77F37-297E-400C-BC04-E11CA37D97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73F64-484C-42FD-93DC-45D4F57C32B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931D9-C832-44BF-B324-D384D3917D3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F2A84-7C48-46A2-8DF8-5269AE6337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B88A9-10A4-4555-BB87-33DFCC0245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29E6B-401C-4AEA-A7DB-01969257B0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8981A-F33D-4FBB-9F9C-B8073C0373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37AF7-BBF0-4DBB-B859-327C5EB81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3748-EC83-4B80-8462-09653F01F7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56CB4-7DC5-49E5-B67B-520B27EA33F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68508-CC9F-4977-AB8C-9B82A617C02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1A707-C459-4A8B-84BC-CE7E7299BA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CF3B-7575-4198-B87A-5CF1DD60C2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B75E-8DF7-4985-9D9A-8B18D766BA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6A51-DBF2-426D-AD4B-D21AD30238B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F908-C580-4CCB-A731-C8D0447064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C6B2-687A-46D2-A05E-7E96147D146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C464-C8FA-4A9D-A47F-2A07BE19A5F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7949-E3D9-4E68-9E5E-FE3C3AD22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9448-7D06-4505-8F85-20B281C244B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D57A-2DFD-48C3-9BEC-8A9C9DAA702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8382-E32E-46E8-9BF6-04D01A43C3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A986-65A2-46A8-9C40-E0A46A97BAA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BEB1-C02A-42F4-A8A1-0FEAFDE129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9A42-CC3C-4C11-846C-BD7157B7BAF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9EBC6-7FA5-493D-ABD3-B791DC28A6D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BA9BC-BB98-4ED4-B2AA-29B8826FC5C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C1D396-51D5-406F-90FF-0E00CC4B1FE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AB4CE-FCD3-4A5D-BB2A-0360822F491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58759E-5825-4C75-9744-58ABB6F04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9762-61EC-457D-8051-A08225D47B5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7DDC2-B3EB-4DEF-9153-2A1788BD36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2A395E-5CA3-407F-A857-9A27CC8DE2C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04DEC-84A0-4E31-AE51-9D46CCBECE4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08BB6-0222-42D4-B3CB-1E6977B883E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9224A-5B40-4D55-B050-16F3098B143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6D57C-11B8-4EAF-AEE1-2902AB9C5D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AC076-C05D-4DCA-8179-8E73CC4AF61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0595-F8F7-4C33-97C6-FF1CE60E4AD0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">
            <a:hlinkClick r:id="rId5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Num" idx="8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C40B-019C-402F-9ACC-D01748F1613B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9">
            <a:hlinkClick r:id="rId5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Num" idx="9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EE81-FA25-4707-BB26-BD7F2C11459D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Num" idx="10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FB40-BE40-42AE-AF35-D4F3F847044E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Рисунок 7" descr="Logo_mini.png"/>
          <p:cNvPicPr/>
          <p:nvPr/>
        </p:nvPicPr>
        <p:blipFill>
          <a:blip r:embed="rId3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Num" idx="11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219A-8767-427B-8711-DF30F56BFBFB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7" descr="Logo_mini.png"/>
          <p:cNvPicPr/>
          <p:nvPr/>
        </p:nvPicPr>
        <p:blipFill>
          <a:blip r:embed="rId3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591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Num" idx="12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C29-6A85-4DA8-B918-39AA1272D5BE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A818-0B51-4649-BEBE-246291A46068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>
            <a:hlinkClick r:id="rId2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Num" idx="3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2CD1-6AEF-4C17-8816-A3391730F141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Num" idx="4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3095-B3AD-49E5-A121-8E7D562CF733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Num" idx="5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6117-2067-4458-A205-E982E8314323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Num" idx="6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12A6-DA0E-46A6-B172-4F1C9FBBB078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Num" idx="7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5C44-20B9-4CC5-86AF-298946ECB43D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">
            <a:hlinkClick r:id="rId2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7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8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рямоугольник 6"/>
          <p:cNvSpPr/>
          <p:nvPr/>
        </p:nvSpPr>
        <p:spPr>
          <a:xfrm>
            <a:off x="0" y="-214200"/>
            <a:ext cx="9144000" cy="707220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"/>
          <p:cNvSpPr/>
          <p:nvPr/>
        </p:nvSpPr>
        <p:spPr>
          <a:xfrm>
            <a:off x="938160" y="2116080"/>
            <a:ext cx="710100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Руководитель филиала ФГБУ «Россельхозцентр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по Красноярскому краю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Малинников Алексей Валентинович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54360" cy="955800"/>
          </a:xfrm>
          <a:prstGeom prst="rect">
            <a:avLst/>
          </a:prstGeom>
          <a:ln w="0">
            <a:noFill/>
          </a:ln>
        </p:spPr>
      </p:pic>
      <p:sp>
        <p:nvSpPr>
          <p:cNvPr id="642" name="TextBox 1"/>
          <p:cNvSpPr/>
          <p:nvPr/>
        </p:nvSpPr>
        <p:spPr>
          <a:xfrm>
            <a:off x="1535040" y="29844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инистерство сельского хозяйства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оссийской Феде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1500120" y="1071720"/>
            <a:ext cx="660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Федеральное государственное бюджетное учрежден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«Российский сельскохозяйственный центр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(ФГБУ «Россельхозцентр»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Рисунок 3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984240" cy="928800"/>
          </a:xfrm>
          <a:prstGeom prst="rect">
            <a:avLst/>
          </a:prstGeom>
          <a:ln w="0">
            <a:noFill/>
          </a:ln>
        </p:spPr>
      </p:pic>
      <p:sp>
        <p:nvSpPr>
          <p:cNvPr id="645" name="Номер слайда 1"/>
          <p:cNvSpPr/>
          <p:nvPr/>
        </p:nvSpPr>
        <p:spPr>
          <a:xfrm>
            <a:off x="0" y="6558120"/>
            <a:ext cx="539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"/>
          <p:cNvSpPr/>
          <p:nvPr/>
        </p:nvSpPr>
        <p:spPr>
          <a:xfrm>
            <a:off x="4031280" y="58514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прель 2022 г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9"/>
          <p:cNvSpPr/>
          <p:nvPr/>
        </p:nvSpPr>
        <p:spPr>
          <a:xfrm>
            <a:off x="1619280" y="2349360"/>
            <a:ext cx="70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"/>
              </a:rPr>
              <a:t>Тема: Предварительный прогноз фитосанитарного состояния сельскохозяйственных угодий на территории Красноярского края в 2022 году. Обзор качества семян, предназначенных для посева в 2022 году в хозяйствах Красноярского кр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07640" y="189000"/>
            <a:ext cx="7559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бор урожая зерновых культур от вредителей и болезней в 2021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0" y="1125360"/>
          <a:ext cx="9036000" cy="5465880"/>
        </p:xfrm>
        <a:graphic>
          <a:graphicData uri="http://schemas.openxmlformats.org/drawingml/2006/table">
            <a:tbl>
              <a:tblPr/>
              <a:tblGrid>
                <a:gridCol w="2556000"/>
                <a:gridCol w="1152360"/>
                <a:gridCol w="1150920"/>
                <a:gridCol w="1081080"/>
                <a:gridCol w="1150920"/>
                <a:gridCol w="1044720"/>
                <a:gridCol w="900000"/>
              </a:tblGrid>
              <a:tr h="3715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ВО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обор урожая, %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многолетний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краю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точ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траль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ад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ж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дители</a:t>
                      </a:r>
                      <a:r>
                        <a:rPr b="1" lang="ru-RU" sz="1600" spc="-1" strike="noStrike">
                          <a:solidFill>
                            <a:srgbClr val="dce6f2"/>
                          </a:solidFill>
                          <a:latin typeface="Times New Roman"/>
                          <a:ea typeface="Calibri"/>
                        </a:rPr>
                        <a:t>…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утристеблевые вредител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шеничный трип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лаковая тл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зни</a:t>
                      </a:r>
                      <a:r>
                        <a:rPr b="1" lang="ru-RU" sz="1600" spc="-1" strike="noStrike">
                          <a:solidFill>
                            <a:srgbClr val="dce6f2"/>
                          </a:solidFill>
                          <a:latin typeface="Times New Roman"/>
                          <a:ea typeface="Calibri"/>
                        </a:rPr>
                        <a:t>…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невые гнили пшениц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пториоз пшениц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пшениц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невые гнили ячме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льминтоспориоз ячме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ячмен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2" name="Прямоугольник 3"/>
          <p:cNvSpPr/>
          <p:nvPr/>
        </p:nvSpPr>
        <p:spPr>
          <a:xfrm>
            <a:off x="7093080" y="1484280"/>
            <a:ext cx="1008000" cy="511344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0D28-8777-4D91-BE5E-556B4EE884C2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0" y="189000"/>
            <a:ext cx="7956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обработок посевов сельскохозяйственных культур от вредителей и болезней в Красноярском крае в 2011-2021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Диаграмма 3" descr=""/>
          <p:cNvPicPr/>
          <p:nvPr/>
        </p:nvPicPr>
        <p:blipFill>
          <a:blip r:embed="rId1"/>
          <a:stretch/>
        </p:blipFill>
        <p:spPr>
          <a:xfrm>
            <a:off x="390600" y="1195560"/>
            <a:ext cx="8429400" cy="5260680"/>
          </a:xfrm>
          <a:prstGeom prst="rect">
            <a:avLst/>
          </a:prstGeom>
          <a:ln w="0">
            <a:noFill/>
          </a:ln>
        </p:spPr>
      </p:pic>
      <p:sp>
        <p:nvSpPr>
          <p:cNvPr id="696" name="Номер слайда 5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EB11-8516-4EF2-AE8E-786774EF829C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0" y="189000"/>
            <a:ext cx="81439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оренность посевов сельскохозяйственных культур наиболее распространенными в крае сорняками в 2021 году по группам район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79280" y="857160"/>
          <a:ext cx="8785440" cy="5983200"/>
        </p:xfrm>
        <a:graphic>
          <a:graphicData uri="http://schemas.openxmlformats.org/drawingml/2006/table">
            <a:tbl>
              <a:tblPr/>
              <a:tblGrid>
                <a:gridCol w="3097440"/>
                <a:gridCol w="1582560"/>
                <a:gridCol w="1081080"/>
                <a:gridCol w="1079640"/>
                <a:gridCol w="1008000"/>
                <a:gridCol w="936720"/>
              </a:tblGrid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орного растен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эфициент засоренности в крае 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 по группам районов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51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олистны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ь бел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аренник  цепки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шка вьюнков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 татарская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т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т розовы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ьюнок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рица запрокинут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опля сорн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стник цикутов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щ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уванчик лекарствен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тушья сумка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51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ковы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сюг обыкновен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 сорно-полев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 курин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тинник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рей ползучи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9" name="Прямоугольник 3"/>
          <p:cNvSpPr/>
          <p:nvPr/>
        </p:nvSpPr>
        <p:spPr>
          <a:xfrm>
            <a:off x="7020000" y="1052640"/>
            <a:ext cx="1008000" cy="580536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5123-A755-4985-9202-E6D797E56E37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107640" y="189000"/>
            <a:ext cx="7272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обработок посевов сельскохозяйственных культур от сорняков в Красноярском крае в 2011-2021г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Диаграмма 7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791920" cy="5407200"/>
          </a:xfrm>
          <a:prstGeom prst="rect">
            <a:avLst/>
          </a:prstGeom>
          <a:ln w="0">
            <a:noFill/>
          </a:ln>
        </p:spPr>
      </p:pic>
      <p:sp>
        <p:nvSpPr>
          <p:cNvPr id="703" name="Номер слайда 3"/>
          <p:cNvSpPr/>
          <p:nvPr/>
        </p:nvSpPr>
        <p:spPr>
          <a:xfrm>
            <a:off x="0" y="664056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6899-891B-4E6E-96A2-1F5DB6B09AA4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23640" y="5084280"/>
            <a:ext cx="8569080" cy="3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из них доля препаратов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189000"/>
            <a:ext cx="732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поступления пестицидов в Красноярском крае в 2021 году, тон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Диаграмма 5" descr=""/>
          <p:cNvPicPr/>
          <p:nvPr/>
        </p:nvPicPr>
        <p:blipFill>
          <a:blip r:embed="rId1"/>
          <a:stretch/>
        </p:blipFill>
        <p:spPr>
          <a:xfrm>
            <a:off x="1401840" y="981000"/>
            <a:ext cx="6267240" cy="3743280"/>
          </a:xfrm>
          <a:prstGeom prst="rect">
            <a:avLst/>
          </a:prstGeom>
          <a:ln w="0">
            <a:noFill/>
          </a:ln>
        </p:spPr>
      </p:pic>
      <p:pic>
        <p:nvPicPr>
          <p:cNvPr id="707" name="Диаграмма 7" descr=""/>
          <p:cNvPicPr/>
          <p:nvPr/>
        </p:nvPicPr>
        <p:blipFill>
          <a:blip r:embed="rId2"/>
          <a:stretch/>
        </p:blipFill>
        <p:spPr>
          <a:xfrm>
            <a:off x="1401840" y="5443560"/>
            <a:ext cx="5730840" cy="1231920"/>
          </a:xfrm>
          <a:prstGeom prst="rect">
            <a:avLst/>
          </a:prstGeom>
          <a:ln w="0">
            <a:noFill/>
          </a:ln>
        </p:spPr>
      </p:pic>
      <p:sp>
        <p:nvSpPr>
          <p:cNvPr id="708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32FF-DF8B-48FD-B04C-50691FA1DB90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\\192.168.10.4\файлообменник\Фото\Фото для А.В. Малинникова\IMG_20210812_140202.jpg"/>
          <p:cNvPicPr/>
          <p:nvPr/>
        </p:nvPicPr>
        <p:blipFill>
          <a:blip r:embed="rId1"/>
          <a:srcRect l="6823" t="0" r="9239" b="0"/>
          <a:stretch/>
        </p:blipFill>
        <p:spPr>
          <a:xfrm>
            <a:off x="-7920" y="0"/>
            <a:ext cx="3763800" cy="3357720"/>
          </a:xfrm>
          <a:prstGeom prst="rect">
            <a:avLst/>
          </a:prstGeom>
          <a:ln w="0">
            <a:noFill/>
          </a:ln>
        </p:spPr>
      </p:pic>
      <p:sp>
        <p:nvSpPr>
          <p:cNvPr id="710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8EA8-F6E0-4376-A0F7-3223DAF9A51B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4" descr="\\192.168.10.4\файлообменник\Фото\Фото для А.В. Малинникова\c5bdc342-3b4c-4b62-a764-76cb76795efd.jpg"/>
          <p:cNvPicPr/>
          <p:nvPr/>
        </p:nvPicPr>
        <p:blipFill>
          <a:blip r:embed="rId2"/>
          <a:srcRect l="0" t="0" r="0" b="4761"/>
          <a:stretch/>
        </p:blipFill>
        <p:spPr>
          <a:xfrm>
            <a:off x="-36360" y="3357720"/>
            <a:ext cx="3676320" cy="35002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-36360" y="6597360"/>
            <a:ext cx="1800000" cy="26028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тадные саранчов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834920" y="4941720"/>
            <a:ext cx="208908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уговой мотылек, бабоч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801800" y="6629040"/>
            <a:ext cx="1944720" cy="2286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уговой мотылек, гусени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3" descr="\\192.168.10.4\файлообменник\Фото\Фото для А.В. Малинникова\9d7a818d-e718-4850-9f1c-bcde6f7d7cb7.jpg"/>
          <p:cNvPicPr/>
          <p:nvPr/>
        </p:nvPicPr>
        <p:blipFill>
          <a:blip r:embed="rId3"/>
          <a:srcRect l="0" t="0" r="0" b="2093"/>
          <a:stretch/>
        </p:blipFill>
        <p:spPr>
          <a:xfrm>
            <a:off x="3630600" y="1460520"/>
            <a:ext cx="5513400" cy="539748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3850920" y="3933720"/>
            <a:ext cx="2165400" cy="2253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пториоз кол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659280" y="3933720"/>
            <a:ext cx="2165400" cy="2253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учнистая р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508360" y="6630480"/>
            <a:ext cx="215892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узариоз кол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667640" y="6630480"/>
            <a:ext cx="151272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льтернариоз рап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638160" y="6630480"/>
            <a:ext cx="187020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епториоз листа пшениц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39640" y="3141720"/>
            <a:ext cx="216072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псовый цветое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3" descr="\\192.168.10.4\файлообменник\Фото\Фото для А.В. Малинникова\Красноярский край, Каратузский р-он, клоп вредной черепашки, июнь 2020г..jpg"/>
          <p:cNvPicPr/>
          <p:nvPr/>
        </p:nvPicPr>
        <p:blipFill>
          <a:blip r:embed="rId4"/>
          <a:srcRect l="38703" t="32916" r="22595" b="8001"/>
          <a:stretch/>
        </p:blipFill>
        <p:spPr>
          <a:xfrm>
            <a:off x="3708360" y="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\\192.168.10.4\файлообменник\Фото\Фото для А.В. Малинникова\Красноярский край , Новосёловский район, яровой рапс, гусеница капустной моли, июль 2019г..jpg"/>
          <p:cNvPicPr/>
          <p:nvPr/>
        </p:nvPicPr>
        <p:blipFill>
          <a:blip r:embed="rId5"/>
          <a:srcRect l="30334" t="25687" r="13933" b="32042"/>
          <a:stretch/>
        </p:blipFill>
        <p:spPr>
          <a:xfrm>
            <a:off x="5508720" y="0"/>
            <a:ext cx="2609640" cy="14842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5724360" y="1268280"/>
            <a:ext cx="216072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усеница капустной мо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708000" y="1268280"/>
            <a:ext cx="180036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оп вредная черепа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https://cstor.nn2.ru/blog/data/blog/2022-01/3295014_1641483942.jpg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5794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68360" y="1125000"/>
            <a:ext cx="7991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Прямоугольник 5"/>
          <p:cNvGrpSpPr/>
          <p:nvPr/>
        </p:nvGrpSpPr>
        <p:grpSpPr>
          <a:xfrm>
            <a:off x="4486320" y="4565520"/>
            <a:ext cx="4743360" cy="2401920"/>
            <a:chOff x="4486320" y="4565520"/>
            <a:chExt cx="4743360" cy="2401920"/>
          </a:xfrm>
        </p:grpSpPr>
        <p:pic>
          <p:nvPicPr>
            <p:cNvPr id="7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486320" y="4565520"/>
              <a:ext cx="47433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716360" y="4797360"/>
              <a:ext cx="42832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Филиал ФГБУ «Россельхозцентр» по Красноярскому краю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г. Красноярск. Сурикова, 54 «В»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Тел. +7(391) 227-74-96,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E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-</a:t>
              </a: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mail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:</a:t>
              </a: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krstazr@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mail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.</a:t>
              </a: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ru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www.r</a:t>
              </a: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sc024.ru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152-E875-4C0A-93CC-C2C276F2138D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19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ртовые посевы яровых зерновых и зернобобовы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 в Красноярском крае 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-214200" y="285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324000" y="1268280"/>
          <a:ext cx="8640720" cy="5081760"/>
        </p:xfrm>
        <a:graphic>
          <a:graphicData uri="http://schemas.openxmlformats.org/drawingml/2006/table">
            <a:tbl>
              <a:tblPr/>
              <a:tblGrid>
                <a:gridCol w="2855880"/>
                <a:gridCol w="1244520"/>
                <a:gridCol w="1171440"/>
                <a:gridCol w="1098720"/>
                <a:gridCol w="1171440"/>
                <a:gridCol w="1098720"/>
              </a:tblGrid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3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еяно яровых зерновых, зернобобовых и крупяных всего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3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,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,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2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5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0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2" name="Номер слайда 5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7264-87BF-4A6B-B60D-379AC3BABF0B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250920" y="1160640"/>
            <a:ext cx="8208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32920" y="1646280"/>
            <a:ext cx="8209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39400" y="2079720"/>
            <a:ext cx="82090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07640" y="189000"/>
            <a:ext cx="7218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овые посевы масличных культур, в том числе рапса в Красноярском крае 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144360" y="1068480"/>
          <a:ext cx="8891640" cy="5491080"/>
        </p:xfrm>
        <a:graphic>
          <a:graphicData uri="http://schemas.openxmlformats.org/drawingml/2006/table">
            <a:tbl>
              <a:tblPr/>
              <a:tblGrid>
                <a:gridCol w="3384720"/>
                <a:gridCol w="1224000"/>
                <a:gridCol w="1079280"/>
                <a:gridCol w="1033560"/>
                <a:gridCol w="1165320"/>
                <a:gridCol w="1004760"/>
              </a:tblGrid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032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еяно масличных культур всего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1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 всего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br>
                        <a:rPr sz="20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</a:t>
                      </a:r>
                      <a:br>
                        <a:rPr sz="20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(19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(20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8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6767-1337-40D3-B34E-643A88D6ED37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178920" y="189000"/>
            <a:ext cx="7147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овые посадки картофеля в Красноярском кра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250920" y="1125360"/>
          <a:ext cx="8642160" cy="4524480"/>
        </p:xfrm>
        <a:graphic>
          <a:graphicData uri="http://schemas.openxmlformats.org/drawingml/2006/table">
            <a:tbl>
              <a:tblPr/>
              <a:tblGrid>
                <a:gridCol w="3024000"/>
                <a:gridCol w="1225800"/>
                <a:gridCol w="1066680"/>
                <a:gridCol w="1108080"/>
                <a:gridCol w="1065240"/>
                <a:gridCol w="1152360"/>
              </a:tblGrid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1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ажено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я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5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9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br>
                        <a:rPr sz="20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(50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1" name="TextBox 6"/>
          <p:cNvSpPr/>
          <p:nvPr/>
        </p:nvSpPr>
        <p:spPr>
          <a:xfrm>
            <a:off x="468360" y="5877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ктически весь картофель иностранной селекции производится в РФ, не более 2-3% завозится из-за рубеж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Номер слайда 7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AD2D-EDAF-47C0-8E52-D0CDCA33D3B2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40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а высева кондиционных семян яровых зерновых и зернобобовых культур в Красноярском крае за 2017-2021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Диаграмма 5" descr=""/>
          <p:cNvPicPr/>
          <p:nvPr/>
        </p:nvPicPr>
        <p:blipFill>
          <a:blip r:embed="rId1"/>
          <a:stretch/>
        </p:blipFill>
        <p:spPr>
          <a:xfrm>
            <a:off x="469800" y="1407960"/>
            <a:ext cx="8350200" cy="4973760"/>
          </a:xfrm>
          <a:prstGeom prst="rect">
            <a:avLst/>
          </a:prstGeom>
          <a:ln w="0">
            <a:noFill/>
          </a:ln>
        </p:spPr>
      </p:pic>
      <p:sp>
        <p:nvSpPr>
          <p:cNvPr id="665" name="Номер слайда 3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024A-BEB5-4C0D-B703-ED8093B411BA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108000" y="189000"/>
            <a:ext cx="70754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семян яровых зерновых и зернобобовых культур, предназначенных для посева в 2022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539640" y="1052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1928-605A-4A73-BDD2-CCBFFB65BAA8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ая соединительная линия 8"/>
          <p:cNvSpPr/>
          <p:nvPr/>
        </p:nvSpPr>
        <p:spPr>
          <a:xfrm flipV="1">
            <a:off x="5292720" y="5300640"/>
            <a:ext cx="57168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ая соединительная линия 9"/>
          <p:cNvSpPr/>
          <p:nvPr/>
        </p:nvSpPr>
        <p:spPr>
          <a:xfrm flipV="1">
            <a:off x="2411280" y="5373360"/>
            <a:ext cx="5716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ая соединительная линия 10"/>
          <p:cNvSpPr/>
          <p:nvPr/>
        </p:nvSpPr>
        <p:spPr>
          <a:xfrm flipV="1">
            <a:off x="3635280" y="5300640"/>
            <a:ext cx="57168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Диаграмма 11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70880" cy="4687920"/>
          </a:xfrm>
          <a:prstGeom prst="rect">
            <a:avLst/>
          </a:prstGeom>
          <a:ln w="0">
            <a:noFill/>
          </a:ln>
        </p:spPr>
      </p:pic>
      <p:sp>
        <p:nvSpPr>
          <p:cNvPr id="673" name="Прямая соединительная линия 12"/>
          <p:cNvSpPr/>
          <p:nvPr/>
        </p:nvSpPr>
        <p:spPr>
          <a:xfrm flipV="1">
            <a:off x="1763640" y="5373360"/>
            <a:ext cx="5716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13"/>
          <p:cNvSpPr/>
          <p:nvPr/>
        </p:nvSpPr>
        <p:spPr>
          <a:xfrm flipV="1">
            <a:off x="2771640" y="5373720"/>
            <a:ext cx="716040" cy="719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08000" y="1160640"/>
            <a:ext cx="42480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е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0" y="1197000"/>
            <a:ext cx="4464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ячм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189000"/>
            <a:ext cx="8028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аженность возбудителями заболеваний семян зерновых культур урожая 2011-2021 годов в Красноярском крае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Chart 1" descr=""/>
          <p:cNvPicPr/>
          <p:nvPr/>
        </p:nvPicPr>
        <p:blipFill>
          <a:blip r:embed="rId1"/>
          <a:stretch/>
        </p:blipFill>
        <p:spPr>
          <a:xfrm>
            <a:off x="0" y="1841400"/>
            <a:ext cx="4572000" cy="3894120"/>
          </a:xfrm>
          <a:prstGeom prst="rect">
            <a:avLst/>
          </a:prstGeom>
          <a:ln w="0">
            <a:noFill/>
          </a:ln>
        </p:spPr>
      </p:pic>
      <p:pic>
        <p:nvPicPr>
          <p:cNvPr id="679" name="Chart 1" descr=""/>
          <p:cNvPicPr/>
          <p:nvPr/>
        </p:nvPicPr>
        <p:blipFill>
          <a:blip r:embed="rId2"/>
          <a:stretch/>
        </p:blipFill>
        <p:spPr>
          <a:xfrm>
            <a:off x="4638600" y="1841400"/>
            <a:ext cx="4505400" cy="3894120"/>
          </a:xfrm>
          <a:prstGeom prst="rect">
            <a:avLst/>
          </a:prstGeom>
          <a:ln w="0">
            <a:noFill/>
          </a:ln>
        </p:spPr>
      </p:pic>
      <p:sp>
        <p:nvSpPr>
          <p:cNvPr id="680" name="Номер слайда 7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1E6-DB38-491A-B250-039CB520E9AC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79280" y="189000"/>
            <a:ext cx="7632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аженность возбудителями корневых гнилей семян зерновых культур урожая 2021 года в Красноя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Диаграмма 5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791920" cy="5113440"/>
          </a:xfrm>
          <a:prstGeom prst="rect">
            <a:avLst/>
          </a:prstGeom>
          <a:ln w="0">
            <a:noFill/>
          </a:ln>
        </p:spPr>
      </p:pic>
      <p:sp>
        <p:nvSpPr>
          <p:cNvPr id="683" name="Номер слайда 3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1F2F-75CD-4D2E-95E0-D0710B4EABF0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7640" y="188640"/>
            <a:ext cx="7056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предпосевной обработки семян сельскохозяйственных культур в Красноя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547640" y="1052640"/>
            <a:ext cx="5400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1-2021 годах, тыс. тон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700360" y="4723920"/>
            <a:ext cx="34560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21 году в разрезе культур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403280" y="5084640"/>
          <a:ext cx="6121440" cy="1729080"/>
        </p:xfrm>
        <a:graphic>
          <a:graphicData uri="http://schemas.openxmlformats.org/drawingml/2006/table">
            <a:tbl>
              <a:tblPr/>
              <a:tblGrid>
                <a:gridCol w="3060720"/>
                <a:gridCol w="3060720"/>
              </a:tblGrid>
              <a:tr h="3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ультура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 к высеянным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ровая пшениц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чмень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е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рнобобовы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п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88" name="Диаграмма 8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83600" cy="3462480"/>
          </a:xfrm>
          <a:prstGeom prst="rect">
            <a:avLst/>
          </a:prstGeom>
          <a:ln w="0">
            <a:noFill/>
          </a:ln>
        </p:spPr>
      </p:pic>
      <p:sp>
        <p:nvSpPr>
          <p:cNvPr id="689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1216-CA60-46D7-BD7C-6F6930D169C6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52:55Z</dcterms:created>
  <dc:creator>Polina</dc:creator>
  <dc:description/>
  <dc:language>en-US</dc:language>
  <cp:lastModifiedBy>Оксана Н. Вебер</cp:lastModifiedBy>
  <dcterms:modified xsi:type="dcterms:W3CDTF">2022-04-12T02:59:40Z</dcterms:modified>
  <cp:revision>1627</cp:revision>
  <dc:subject/>
  <dc:title>Слайд 1</dc:title>
</cp:coreProperties>
</file>